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993-6B39-4B06-AD7A-0BD05426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DF57-4477-4F89-BD3C-F0C96425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021-BC2F-41C4-8902-E5185FFB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663-59E0-44E2-A976-50952D04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8AD-2D8A-4979-BB14-F14872F2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187-820C-45A4-87FD-639C3F8D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30E-39B0-4E2B-A4B8-8A7C5515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DF2-E46D-4E5D-A53E-3B5506B7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04D-AD61-4B30-B14A-F2EBB161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360-49A4-4931-B0F5-B1336069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116-B9A3-4D33-ADD8-05E0A4F8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8ABF-321C-4A25-A5A6-276093D2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26FF-D6F9-4627-9C76-321CA82837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itweb.tekotago.ac.nz/wiki/index.php?title=Image:10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Section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What worked w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Having access to other peoples wiki’s helped when we were unsure of certain el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paper based proto type gave us a better idea of how the product should look and f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What didn’t work w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re was a lack of group structure and group ro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e didn’t use scrums as well as we should ha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e didn’t utilize time as well as we should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Ella’s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make people aware of 350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Encourage people to attend the spring food festiv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Encourage people to change 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Original Id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0" t="0" r="0" b="13316"/>
          <a:stretch/>
        </p:blipFill>
        <p:spPr>
          <a:xfrm>
            <a:off x="4800600" y="2286000"/>
            <a:ext cx="3867120" cy="2886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rcRect l="0" t="0" r="-163" b="12917"/>
          <a:stretch/>
        </p:blipFill>
        <p:spPr>
          <a:xfrm>
            <a:off x="195120" y="2252520"/>
            <a:ext cx="4370400" cy="2900520"/>
          </a:xfrm>
          <a:prstGeom prst="rect">
            <a:avLst/>
          </a:prstGeom>
          <a:ln w="0">
            <a:noFill/>
          </a:ln>
        </p:spPr>
      </p:pic>
      <p:cxnSp>
        <p:nvCxnSpPr>
          <p:cNvPr id="48" name="Straight Arrow Connector 5"/>
          <p:cNvCxnSpPr/>
          <p:nvPr/>
        </p:nvCxnSpPr>
        <p:spPr>
          <a:xfrm flipH="1" flipV="1">
            <a:off x="1951920" y="3466800"/>
            <a:ext cx="2839320" cy="24962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9" name="Straight Arrow Connector 6"/>
          <p:cNvCxnSpPr/>
          <p:nvPr/>
        </p:nvCxnSpPr>
        <p:spPr>
          <a:xfrm flipV="1">
            <a:off x="4724280" y="3428280"/>
            <a:ext cx="2353680" cy="25153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0" name="Straight Arrow Connector 7"/>
          <p:cNvCxnSpPr/>
          <p:nvPr/>
        </p:nvCxnSpPr>
        <p:spPr>
          <a:xfrm flipV="1">
            <a:off x="4876920" y="5019480"/>
            <a:ext cx="1753200" cy="9244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1" name="Straight Arrow Connector 10"/>
          <p:cNvCxnSpPr/>
          <p:nvPr/>
        </p:nvCxnSpPr>
        <p:spPr>
          <a:xfrm flipH="1" flipV="1">
            <a:off x="2761560" y="4619160"/>
            <a:ext cx="1981800" cy="1334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Straight Arrow Connector 13"/>
          <p:cNvCxnSpPr/>
          <p:nvPr/>
        </p:nvCxnSpPr>
        <p:spPr>
          <a:xfrm flipV="1">
            <a:off x="4772160" y="4333680"/>
            <a:ext cx="2210400" cy="1638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Rectangle 21"/>
          <p:cNvSpPr/>
          <p:nvPr/>
        </p:nvSpPr>
        <p:spPr>
          <a:xfrm>
            <a:off x="4181400" y="5924520"/>
            <a:ext cx="1305000" cy="352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4172040" y="59911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Movable Ob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1486080" y="1495440"/>
            <a:ext cx="188568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5591160" y="1486080"/>
            <a:ext cx="188604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5"/>
          <p:cNvSpPr/>
          <p:nvPr/>
        </p:nvSpPr>
        <p:spPr>
          <a:xfrm>
            <a:off x="1590840" y="15238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ce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5676840" y="1514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cenari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New Id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350mire_bike copy.gif"/>
          <p:cNvPicPr/>
          <p:nvPr/>
        </p:nvPicPr>
        <p:blipFill>
          <a:blip r:embed="rId1"/>
          <a:stretch/>
        </p:blipFill>
        <p:spPr>
          <a:xfrm>
            <a:off x="1403280" y="1600200"/>
            <a:ext cx="1973160" cy="1409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350mire_coal copy.gif"/>
          <p:cNvPicPr/>
          <p:nvPr/>
        </p:nvPicPr>
        <p:blipFill>
          <a:blip r:embed="rId2"/>
          <a:stretch/>
        </p:blipFill>
        <p:spPr>
          <a:xfrm>
            <a:off x="5019840" y="1531800"/>
            <a:ext cx="2628720" cy="1282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350mire_tree copy.gif"/>
          <p:cNvPicPr/>
          <p:nvPr/>
        </p:nvPicPr>
        <p:blipFill>
          <a:blip r:embed="rId3"/>
          <a:stretch/>
        </p:blipFill>
        <p:spPr>
          <a:xfrm>
            <a:off x="1704960" y="361944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350mire_motorbike copy.gif"/>
          <p:cNvPicPr/>
          <p:nvPr/>
        </p:nvPicPr>
        <p:blipFill>
          <a:blip r:embed="rId4"/>
          <a:stretch/>
        </p:blipFill>
        <p:spPr>
          <a:xfrm>
            <a:off x="5315040" y="3451320"/>
            <a:ext cx="26002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Functional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system shall educate the 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system shall entertain the 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system shall inform the user about 350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system shall challenge the 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system shall encourage the 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DF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889280" y="1285920"/>
            <a:ext cx="4464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E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1395360"/>
            <a:ext cx="5715000" cy="4172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4362480" y="3419640"/>
            <a:ext cx="3867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Paper Base Prot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66720" y="1438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tester suggested to have a "Back" butt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hat happens when all good clean green images appe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The tester asked "Will the game pause if he selected the instructions button?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Image:1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25760" y="1200240"/>
            <a:ext cx="40068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Wire Fr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9:14:56Z</dcterms:created>
  <dc:creator>m.pierce</dc:creator>
  <dc:description/>
  <dc:language>en-US</dc:language>
  <cp:lastModifiedBy>REIDVR1</cp:lastModifiedBy>
  <dcterms:modified xsi:type="dcterms:W3CDTF">2009-11-17T22:39:42Z</dcterms:modified>
  <cp:revision>138</cp:revision>
  <dc:subject/>
  <dc:title>Slide 1</dc:title>
</cp:coreProperties>
</file>